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4B1DD-7F71-45BC-8CBB-C3260894428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IVE PROPE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peration of multiplication distributes over add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stributive property also holds for a factor that is multiplied on the le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VE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peration of multiplication distributes over ad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stributive property also holds for a factor that is multiplied on the le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les of Sig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sitive times a negative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gative times a positive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gative of a neg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UTION:  Remember that the value for a and/or b could also be positive or negativ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sitive divided by a negative 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gative divided by a positive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gative divided by a negative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s of Sig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sitive times a negative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gative times a positive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gative of a 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TION:  Remember that the value for a and/or b could also be positive or negativ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sitive divided by a negative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gative divided by a positive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gative divided by a negative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knowledg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wish to thank Shawna Haider from Salt Lake Community College, Utah USA for her hard work in creating this PowerPoi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cc.ed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wna has kindly given permission for this resource to be downloaded from www.mathxtc.com and for it to be modified to suit the Western Australian Mathematics Curriculu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hen Corcor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d of Mathem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 Stephen’s School – Carram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tstephens.wa.edu.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knowled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sh to thank Shawna Haider from Salt Lake Community College, Utah USA for her hard work in creating this PowerPoi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cc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wna has kindly given permission for this resource to be downloaded from www.mathxtc.com and for it to be modified to suit the Western Australian Mathematics Curricul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hen Corco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of Mathema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 Stephen’s School – Carram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tstephens.wa.edu.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{1, 2, 3, 4, . . . 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were asked to count, the numbers you’d say are called counting numbers.  These numbers can be expressed using set not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e also called the natur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{0, 1, 2, 3, 4, . . . 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include 0 we have the set of whole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{ …, -3, -2, -1, 0,1, 2, 3, . . . 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e the opposites of the whole numbers and you have the set of integ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1, 2, 3, 4, . . .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ere asked to count, the numbers you’d say are called counting numbers.  These numbers can be expressed using set no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also called the natur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0, 1, 2, 3, 4, . . .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include 0 we have the set of whole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 …, -3, -2, -1, 0,1, 2, 3, . . .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 the opposites of the whole numbers and you have the set of integ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le numbers are a subset of integers and counting numbers are a subset of whole number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express a new set of numbers as the quotient of two integers, we have the set of rational numbe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eans to divide one integer by another or “make a fraction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le numbers are a subset of integers and counting numbers are a subset of whole number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express a new set of numbers as the quotient of two integers, we have the set of rational numb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to divide one integer by another or “make a fractio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numbers that cannot be expressed as the quotient of two integers.  These are called irration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rat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ational numbers combined with the irrational numbers make up the set of real numbe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numbers that cannot be expressed as the quotient of two integers.  These are called irration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a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nal numbers combined with the irrational numbers make up the set of real numb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lating English to Ma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-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+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lating English to Ma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-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+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DER OF OPER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re is more than one symbol of operation in an expression, it is agreed to complete the operations in a certain order.  A mnemonic to help you remember this order is bel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 I M D A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ck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d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tipl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d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bt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any simplifying possible inside of brackets starting with innermost brackets and working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ly Ind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multiplication and division from left to 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addition and subtraction from left to 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OF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re is more than one symbol of operation in an expression, it is agreed to complete the operations in a certain order.  A mnemonic to help you remember this order is be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 I M D A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d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b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ny simplifying possible inside of brackets starting with innermost brackets and working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y Ind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multiplication and division from left to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addition and subtraction from left to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MD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MD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ckets – combine these fir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MD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ices – apply the indice n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MD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multiplication and division, left to 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MD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addition and subtraction, left to 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M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M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ckets – combine these 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M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es – apply the indice 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M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multiplication and division, left to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M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addition and subtraction, left to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UTATIVE PROPE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perations of both addition and multiplication are commutativ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dding, you can “commute” or trade the terms pl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multiplying, you can “commute” or trade the factors pl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TATIVE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perations of both addition and multiplication are commut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dding, you can “commute” or trade the terms pl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multiplying, you can “commute” or trade the factors pl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OCIATIVE PROPE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dding, you can “associate” and add any terms first and then add the other ter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multiplying, you can “associate” and multiply any factors first and then multiply the other fac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perations of both addition and multiplication are associ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OCIATIVE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dding, you can “associate” and add any terms first and then add the other ter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multiplying, you can “associate” and multiply any factors first and then multiply the other fa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perations of both addition and multiplication are associ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18C2-4235-48AF-8F38-CE53C4143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4D97-6855-4803-8BB4-65114CDC5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3417-7D0C-4DB5-A6F0-3D7CEFF91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2EC5-4C59-4C35-9176-BCD9A0336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6269-A2FF-4051-A02D-4D795E74C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226C-57DF-4AAA-AE87-C509FA88A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3EB3-7523-4AFB-8576-9419F3124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F406-098C-430E-8438-637C516A5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30FB-7210-45FC-92BD-0BFCA306D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EA0D-D1CB-43DB-8B6E-C1750E89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B21D-1B44-4626-B0B3-9C5FE679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46C5-D761-484D-80ED-DE2A70C0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65ED3-8DA0-4716-92BC-0072D09BAD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slcc.edu/" TargetMode="External"/><Relationship Id="rId2" Type="http://schemas.openxmlformats.org/officeDocument/2006/relationships/hyperlink" Target="http://www.mathxtc.com/" TargetMode="External"/><Relationship Id="rId3" Type="http://schemas.openxmlformats.org/officeDocument/2006/relationships/hyperlink" Target="http://www.ststephens.wa.edu.au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609480" y="152388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 Black"/>
              </a:rPr>
              <a:t>Real number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295280" y="45720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ISTRIBUTIVE PROP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457200" y="1295280"/>
            <a:ext cx="8229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The operation of multiplication distributes over ad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4"/>
              <p:cNvSpPr txBox="1"/>
              <p:nvPr/>
            </p:nvSpPr>
            <p:spPr>
              <a:xfrm>
                <a:off x="754200" y="1905120"/>
                <a:ext cx="381456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5"/>
              <p:cNvSpPr txBox="1"/>
              <p:nvPr/>
            </p:nvSpPr>
            <p:spPr>
              <a:xfrm>
                <a:off x="4462560" y="2590920"/>
                <a:ext cx="451620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Text Box 6"/>
          <p:cNvSpPr/>
          <p:nvPr/>
        </p:nvSpPr>
        <p:spPr>
          <a:xfrm>
            <a:off x="533520" y="335268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he distributive property also holds for a factor that is multiplied on the lef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7"/>
              <p:cNvSpPr txBox="1"/>
              <p:nvPr/>
            </p:nvSpPr>
            <p:spPr>
              <a:xfrm>
                <a:off x="195120" y="4495680"/>
                <a:ext cx="460224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d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×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×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8"/>
              <p:cNvSpPr txBox="1"/>
              <p:nvPr/>
            </p:nvSpPr>
            <p:spPr>
              <a:xfrm>
                <a:off x="4233960" y="5486400"/>
                <a:ext cx="455904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9" name="Freeform 10"/>
          <p:cNvSpPr/>
          <p:nvPr/>
        </p:nvSpPr>
        <p:spPr>
          <a:xfrm>
            <a:off x="4724280" y="2425680"/>
            <a:ext cx="457200" cy="241200"/>
          </a:xfrm>
          <a:custGeom>
            <a:avLst/>
            <a:gdLst>
              <a:gd name="textAreaLeft" fmla="*/ 0 w 457200"/>
              <a:gd name="textAreaRight" fmla="*/ 457560 w 4572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288" h="152">
                <a:moveTo>
                  <a:pt x="0" y="104"/>
                </a:moveTo>
                <a:cubicBezTo>
                  <a:pt x="48" y="52"/>
                  <a:pt x="96" y="0"/>
                  <a:pt x="144" y="8"/>
                </a:cubicBezTo>
                <a:cubicBezTo>
                  <a:pt x="192" y="16"/>
                  <a:pt x="272" y="128"/>
                  <a:pt x="288" y="15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11"/>
          <p:cNvSpPr/>
          <p:nvPr/>
        </p:nvSpPr>
        <p:spPr>
          <a:xfrm>
            <a:off x="4800600" y="2197080"/>
            <a:ext cx="1143000" cy="4698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720" h="296">
                <a:moveTo>
                  <a:pt x="0" y="248"/>
                </a:moveTo>
                <a:cubicBezTo>
                  <a:pt x="108" y="124"/>
                  <a:pt x="216" y="0"/>
                  <a:pt x="336" y="8"/>
                </a:cubicBezTo>
                <a:cubicBezTo>
                  <a:pt x="456" y="16"/>
                  <a:pt x="588" y="156"/>
                  <a:pt x="720" y="29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12"/>
          <p:cNvSpPr/>
          <p:nvPr/>
        </p:nvSpPr>
        <p:spPr>
          <a:xfrm>
            <a:off x="4724280" y="5092560"/>
            <a:ext cx="1067040" cy="47016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470160"/>
              <a:gd name="textAreaBottom" fmla="*/ 470520 h 470160"/>
            </a:gdLst>
            <a:ahLst/>
            <a:rect l="textAreaLeft" t="textAreaTop" r="textAreaRight" b="textAreaBottom"/>
            <a:pathLst>
              <a:path w="672" h="296">
                <a:moveTo>
                  <a:pt x="672" y="248"/>
                </a:moveTo>
                <a:cubicBezTo>
                  <a:pt x="536" y="124"/>
                  <a:pt x="400" y="0"/>
                  <a:pt x="288" y="8"/>
                </a:cubicBezTo>
                <a:cubicBezTo>
                  <a:pt x="176" y="16"/>
                  <a:pt x="88" y="156"/>
                  <a:pt x="0" y="29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13"/>
          <p:cNvSpPr/>
          <p:nvPr/>
        </p:nvSpPr>
        <p:spPr>
          <a:xfrm>
            <a:off x="5410080" y="5257800"/>
            <a:ext cx="381240" cy="228600"/>
          </a:xfrm>
          <a:custGeom>
            <a:avLst/>
            <a:gdLst>
              <a:gd name="textAreaLeft" fmla="*/ 0 w 381240"/>
              <a:gd name="textAreaRight" fmla="*/ 381600 w 3812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40" h="144">
                <a:moveTo>
                  <a:pt x="240" y="144"/>
                </a:moveTo>
                <a:cubicBezTo>
                  <a:pt x="188" y="72"/>
                  <a:pt x="136" y="0"/>
                  <a:pt x="96" y="0"/>
                </a:cubicBezTo>
                <a:cubicBezTo>
                  <a:pt x="56" y="0"/>
                  <a:pt x="28" y="72"/>
                  <a:pt x="0" y="14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4"/>
          <p:cNvSpPr txBox="1"/>
          <p:nvPr/>
        </p:nvSpPr>
        <p:spPr>
          <a:xfrm>
            <a:off x="2666880" y="380880"/>
            <a:ext cx="3048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ules of Signs</a:t>
            </a:r>
            <a:endParaRPr b="0" lang="en-US" sz="2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5"/>
              <p:cNvSpPr txBox="1"/>
              <p:nvPr/>
            </p:nvSpPr>
            <p:spPr>
              <a:xfrm>
                <a:off x="457200" y="1371600"/>
                <a:ext cx="296532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6" name="Text Box 6"/>
          <p:cNvSpPr/>
          <p:nvPr/>
        </p:nvSpPr>
        <p:spPr>
          <a:xfrm>
            <a:off x="152280" y="2057400"/>
            <a:ext cx="198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A positive times a negative 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2133720" y="2362320"/>
            <a:ext cx="213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NEGA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8"/>
              <p:cNvSpPr txBox="1"/>
              <p:nvPr/>
            </p:nvSpPr>
            <p:spPr>
              <a:xfrm>
                <a:off x="4876920" y="1447920"/>
                <a:ext cx="296532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9" name="Text Box 9"/>
          <p:cNvSpPr/>
          <p:nvPr/>
        </p:nvSpPr>
        <p:spPr>
          <a:xfrm>
            <a:off x="4572000" y="2133720"/>
            <a:ext cx="198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A negative times a positive 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6629400" y="2362320"/>
            <a:ext cx="2133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NEGA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11"/>
              <p:cNvSpPr txBox="1"/>
              <p:nvPr/>
            </p:nvSpPr>
            <p:spPr>
              <a:xfrm>
                <a:off x="533520" y="3505320"/>
                <a:ext cx="22557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Text Box 12"/>
          <p:cNvSpPr/>
          <p:nvPr/>
        </p:nvSpPr>
        <p:spPr>
          <a:xfrm>
            <a:off x="228600" y="419112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he negative of a nega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2209680" y="4343400"/>
            <a:ext cx="2133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POSI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228600" y="228600"/>
            <a:ext cx="8458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5"/>
          <p:cNvSpPr/>
          <p:nvPr/>
        </p:nvSpPr>
        <p:spPr>
          <a:xfrm>
            <a:off x="457200" y="228600"/>
            <a:ext cx="830592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UTION:  Remember that the value for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and/or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could also be positive or negative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16"/>
              <p:cNvSpPr txBox="1"/>
              <p:nvPr/>
            </p:nvSpPr>
            <p:spPr>
              <a:xfrm>
                <a:off x="4495680" y="3352680"/>
                <a:ext cx="392616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7" name="Text Box 17"/>
          <p:cNvSpPr/>
          <p:nvPr/>
        </p:nvSpPr>
        <p:spPr>
          <a:xfrm>
            <a:off x="3962520" y="4724280"/>
            <a:ext cx="198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A positive divided by a negative 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8"/>
          <p:cNvSpPr/>
          <p:nvPr/>
        </p:nvSpPr>
        <p:spPr>
          <a:xfrm>
            <a:off x="5638680" y="4648320"/>
            <a:ext cx="198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A negative divided by a positive 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9"/>
          <p:cNvSpPr/>
          <p:nvPr/>
        </p:nvSpPr>
        <p:spPr>
          <a:xfrm>
            <a:off x="7467480" y="4648320"/>
            <a:ext cx="2133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NEGA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20"/>
              <p:cNvSpPr txBox="1"/>
              <p:nvPr/>
            </p:nvSpPr>
            <p:spPr>
              <a:xfrm>
                <a:off x="380880" y="5334120"/>
                <a:ext cx="175428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Text Box 21"/>
          <p:cNvSpPr/>
          <p:nvPr/>
        </p:nvSpPr>
        <p:spPr>
          <a:xfrm>
            <a:off x="2209680" y="5562720"/>
            <a:ext cx="198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A negative divided by a negative 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2"/>
          <p:cNvSpPr/>
          <p:nvPr/>
        </p:nvSpPr>
        <p:spPr>
          <a:xfrm>
            <a:off x="4267080" y="6172200"/>
            <a:ext cx="2133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POSI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5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4"/>
          <p:cNvSpPr/>
          <p:nvPr/>
        </p:nvSpPr>
        <p:spPr>
          <a:xfrm>
            <a:off x="609480" y="914400"/>
            <a:ext cx="7925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Acknowled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 wish to thank Shawna Haider from Salt Lake Community College, Utah USA for her hard work in creating this PowerPo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www.slcc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hawna has kindly given permission for this resource to be downloaded from </a:t>
            </a:r>
            <a:r>
              <a:rPr b="0" lang="en-AU" sz="18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www.mathxtc.com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and for it to be modified to suit the Western Australian Mathematics Curricul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tephen Corco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ad of Math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t Stephen’s School – Carram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www.ststephens.wa.edu.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MathXTCSignature"/>
          <p:cNvPicPr/>
          <p:nvPr/>
        </p:nvPicPr>
        <p:blipFill>
          <a:blip r:embed="rId4"/>
          <a:stretch/>
        </p:blipFill>
        <p:spPr>
          <a:xfrm>
            <a:off x="762120" y="3962520"/>
            <a:ext cx="1371600" cy="39528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1371600" y="213372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1, 2, 3, 4, . . .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533520" y="380880"/>
            <a:ext cx="7924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f you were asked to count, the numbers you’d say are calle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unting number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.  These numbers can be expressed using set no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4800600" y="205740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se are also called the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atural numbers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5334120" y="36576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0, 1, 2, 3, 4, . . .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533520" y="342900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f we include 0 we have the set of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hole number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1295280" y="47242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 …, -3, -2, -1, 0,1, 2, 3, . . .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380880" y="563868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clude the opposites of the whole numbers and you have the set of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nteg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0"/>
          <p:cNvGrpSpPr/>
          <p:nvPr/>
        </p:nvGrpSpPr>
        <p:grpSpPr>
          <a:xfrm>
            <a:off x="304920" y="1600200"/>
            <a:ext cx="6248160" cy="3886200"/>
            <a:chOff x="304920" y="1600200"/>
            <a:chExt cx="6248160" cy="3886200"/>
          </a:xfrm>
        </p:grpSpPr>
        <p:sp>
          <p:nvSpPr>
            <p:cNvPr id="59" name="Oval 15"/>
            <p:cNvSpPr/>
            <p:nvPr/>
          </p:nvSpPr>
          <p:spPr>
            <a:xfrm>
              <a:off x="304920" y="1600200"/>
              <a:ext cx="6248160" cy="388620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16"/>
            <p:cNvSpPr/>
            <p:nvPr/>
          </p:nvSpPr>
          <p:spPr>
            <a:xfrm>
              <a:off x="2133720" y="167652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ational numb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Text Box 4"/>
          <p:cNvSpPr/>
          <p:nvPr/>
        </p:nvSpPr>
        <p:spPr>
          <a:xfrm>
            <a:off x="685800" y="22860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ole numbers are a subset of integers and counting numbers are a subset of whole number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19"/>
          <p:cNvGrpSpPr/>
          <p:nvPr/>
        </p:nvGrpSpPr>
        <p:grpSpPr>
          <a:xfrm>
            <a:off x="685800" y="2209680"/>
            <a:ext cx="5410080" cy="2819520"/>
            <a:chOff x="685800" y="2209680"/>
            <a:chExt cx="5410080" cy="2819520"/>
          </a:xfrm>
        </p:grpSpPr>
        <p:sp>
          <p:nvSpPr>
            <p:cNvPr id="63" name="Oval 5"/>
            <p:cNvSpPr/>
            <p:nvPr/>
          </p:nvSpPr>
          <p:spPr>
            <a:xfrm>
              <a:off x="685800" y="2209680"/>
              <a:ext cx="5410080" cy="281952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6"/>
            <p:cNvSpPr/>
            <p:nvPr/>
          </p:nvSpPr>
          <p:spPr>
            <a:xfrm>
              <a:off x="2590920" y="236232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teg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8"/>
          <p:cNvGrpSpPr/>
          <p:nvPr/>
        </p:nvGrpSpPr>
        <p:grpSpPr>
          <a:xfrm>
            <a:off x="1143000" y="3048120"/>
            <a:ext cx="4419720" cy="1676160"/>
            <a:chOff x="1143000" y="3048120"/>
            <a:chExt cx="4419720" cy="1676160"/>
          </a:xfrm>
        </p:grpSpPr>
        <p:sp>
          <p:nvSpPr>
            <p:cNvPr id="66" name="Oval 7"/>
            <p:cNvSpPr/>
            <p:nvPr/>
          </p:nvSpPr>
          <p:spPr>
            <a:xfrm>
              <a:off x="1143000" y="3048120"/>
              <a:ext cx="4419720" cy="167616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8"/>
            <p:cNvSpPr/>
            <p:nvPr/>
          </p:nvSpPr>
          <p:spPr>
            <a:xfrm>
              <a:off x="2209680" y="312408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ole numb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17"/>
          <p:cNvGrpSpPr/>
          <p:nvPr/>
        </p:nvGrpSpPr>
        <p:grpSpPr>
          <a:xfrm>
            <a:off x="1523880" y="3581280"/>
            <a:ext cx="3810240" cy="990720"/>
            <a:chOff x="1523880" y="3581280"/>
            <a:chExt cx="3810240" cy="990720"/>
          </a:xfrm>
        </p:grpSpPr>
        <p:sp>
          <p:nvSpPr>
            <p:cNvPr id="69" name="Oval 9"/>
            <p:cNvSpPr/>
            <p:nvPr/>
          </p:nvSpPr>
          <p:spPr>
            <a:xfrm>
              <a:off x="1523880" y="3581280"/>
              <a:ext cx="3581640" cy="99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10"/>
            <p:cNvSpPr/>
            <p:nvPr/>
          </p:nvSpPr>
          <p:spPr>
            <a:xfrm>
              <a:off x="2590920" y="3657600"/>
              <a:ext cx="2743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unting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numb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Text Box 11"/>
          <p:cNvSpPr/>
          <p:nvPr/>
        </p:nvSpPr>
        <p:spPr>
          <a:xfrm>
            <a:off x="228600" y="556272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f we express a new set of numbers as the quotient of two integers, we have the set of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ational number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6705720" y="3657600"/>
            <a:ext cx="2438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Arial"/>
              </a:rPr>
              <a:t>This means to divide one integer by another or “make a fraction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3"/>
          <p:cNvSpPr/>
          <p:nvPr/>
        </p:nvSpPr>
        <p:spPr>
          <a:xfrm>
            <a:off x="7010280" y="5638680"/>
            <a:ext cx="1371600" cy="4572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4"/>
          <p:cNvSpPr/>
          <p:nvPr/>
        </p:nvSpPr>
        <p:spPr>
          <a:xfrm>
            <a:off x="7467480" y="5105520"/>
            <a:ext cx="76320" cy="4572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4"/>
          <p:cNvSpPr/>
          <p:nvPr/>
        </p:nvSpPr>
        <p:spPr>
          <a:xfrm>
            <a:off x="6019920" y="1523880"/>
            <a:ext cx="2590560" cy="3886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3"/>
          <p:cNvSpPr/>
          <p:nvPr/>
        </p:nvSpPr>
        <p:spPr>
          <a:xfrm>
            <a:off x="457200" y="1523880"/>
            <a:ext cx="5562720" cy="3886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1981080" y="16765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nal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457200" y="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re are numbers that cannot be expressed as the quotient of two integers.  These are calle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rrational number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6"/>
          <p:cNvGrpSpPr/>
          <p:nvPr/>
        </p:nvGrpSpPr>
        <p:grpSpPr>
          <a:xfrm>
            <a:off x="533520" y="2209680"/>
            <a:ext cx="5410080" cy="2819520"/>
            <a:chOff x="533520" y="2209680"/>
            <a:chExt cx="5410080" cy="2819520"/>
          </a:xfrm>
        </p:grpSpPr>
        <p:sp>
          <p:nvSpPr>
            <p:cNvPr id="81" name="Oval 7"/>
            <p:cNvSpPr/>
            <p:nvPr/>
          </p:nvSpPr>
          <p:spPr>
            <a:xfrm>
              <a:off x="533520" y="2209680"/>
              <a:ext cx="5410080" cy="281952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8"/>
            <p:cNvSpPr/>
            <p:nvPr/>
          </p:nvSpPr>
          <p:spPr>
            <a:xfrm>
              <a:off x="2438640" y="236232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teg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9"/>
          <p:cNvGrpSpPr/>
          <p:nvPr/>
        </p:nvGrpSpPr>
        <p:grpSpPr>
          <a:xfrm>
            <a:off x="990720" y="3048120"/>
            <a:ext cx="4419360" cy="1676160"/>
            <a:chOff x="990720" y="3048120"/>
            <a:chExt cx="4419360" cy="1676160"/>
          </a:xfrm>
        </p:grpSpPr>
        <p:sp>
          <p:nvSpPr>
            <p:cNvPr id="84" name="Oval 10"/>
            <p:cNvSpPr/>
            <p:nvPr/>
          </p:nvSpPr>
          <p:spPr>
            <a:xfrm>
              <a:off x="990720" y="3048120"/>
              <a:ext cx="4419360" cy="167616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1"/>
            <p:cNvSpPr/>
            <p:nvPr/>
          </p:nvSpPr>
          <p:spPr>
            <a:xfrm>
              <a:off x="2057040" y="3124080"/>
              <a:ext cx="27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ole numb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12"/>
          <p:cNvGrpSpPr/>
          <p:nvPr/>
        </p:nvGrpSpPr>
        <p:grpSpPr>
          <a:xfrm>
            <a:off x="1371600" y="3581280"/>
            <a:ext cx="3809520" cy="990720"/>
            <a:chOff x="1371600" y="3581280"/>
            <a:chExt cx="3809520" cy="990720"/>
          </a:xfrm>
        </p:grpSpPr>
        <p:sp>
          <p:nvSpPr>
            <p:cNvPr id="87" name="Oval 13"/>
            <p:cNvSpPr/>
            <p:nvPr/>
          </p:nvSpPr>
          <p:spPr>
            <a:xfrm>
              <a:off x="1371600" y="3581280"/>
              <a:ext cx="3581280" cy="99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14"/>
            <p:cNvSpPr/>
            <p:nvPr/>
          </p:nvSpPr>
          <p:spPr>
            <a:xfrm>
              <a:off x="2438280" y="3657600"/>
              <a:ext cx="274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unting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numb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9" name="Object 19"/>
              <p:cNvSpPr txBox="1"/>
              <p:nvPr/>
            </p:nvSpPr>
            <p:spPr>
              <a:xfrm>
                <a:off x="6324480" y="4114800"/>
                <a:ext cx="73044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20"/>
              <p:cNvSpPr txBox="1"/>
              <p:nvPr/>
            </p:nvSpPr>
            <p:spPr>
              <a:xfrm>
                <a:off x="7772400" y="2133720"/>
                <a:ext cx="5634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Text Box 25"/>
          <p:cNvSpPr/>
          <p:nvPr/>
        </p:nvSpPr>
        <p:spPr>
          <a:xfrm>
            <a:off x="6324480" y="2743200"/>
            <a:ext cx="205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r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6"/>
          <p:cNvSpPr/>
          <p:nvPr/>
        </p:nvSpPr>
        <p:spPr>
          <a:xfrm>
            <a:off x="533520" y="571500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 rational numbers combined with the irrational numbers make up the set of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real number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7"/>
          <p:cNvSpPr/>
          <p:nvPr/>
        </p:nvSpPr>
        <p:spPr>
          <a:xfrm>
            <a:off x="457200" y="1523880"/>
            <a:ext cx="8153280" cy="388620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9"/>
          <p:cNvSpPr/>
          <p:nvPr/>
        </p:nvSpPr>
        <p:spPr>
          <a:xfrm>
            <a:off x="4267080" y="1143000"/>
            <a:ext cx="3505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REAL NUMB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1219320" y="99072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ranslating English to Ma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80880" y="1828800"/>
          <a:ext cx="6019920" cy="3746520"/>
        </p:xfrm>
        <a:graphic>
          <a:graphicData uri="http://schemas.openxmlformats.org/drawingml/2006/table">
            <a:tbl>
              <a:tblPr/>
              <a:tblGrid>
                <a:gridCol w="6019920"/>
              </a:tblGrid>
              <a:tr h="685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 of two numb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75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ce between two numb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676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product of two numb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quotient of two numb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67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98" name="Rectangle 96"/>
          <p:cNvSpPr/>
          <p:nvPr/>
        </p:nvSpPr>
        <p:spPr>
          <a:xfrm>
            <a:off x="6400800" y="4908600"/>
            <a:ext cx="1600200" cy="663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92"/>
          <p:cNvSpPr/>
          <p:nvPr/>
        </p:nvSpPr>
        <p:spPr>
          <a:xfrm>
            <a:off x="6400800" y="3200400"/>
            <a:ext cx="1600200" cy="67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90"/>
          <p:cNvSpPr/>
          <p:nvPr/>
        </p:nvSpPr>
        <p:spPr>
          <a:xfrm>
            <a:off x="6400800" y="2514600"/>
            <a:ext cx="1600200" cy="6858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 -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8"/>
          <p:cNvSpPr/>
          <p:nvPr/>
        </p:nvSpPr>
        <p:spPr>
          <a:xfrm>
            <a:off x="6400800" y="1828800"/>
            <a:ext cx="160020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 +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78"/>
          <p:cNvSpPr/>
          <p:nvPr/>
        </p:nvSpPr>
        <p:spPr>
          <a:xfrm>
            <a:off x="6400800" y="1828800"/>
            <a:ext cx="16002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79"/>
          <p:cNvSpPr/>
          <p:nvPr/>
        </p:nvSpPr>
        <p:spPr>
          <a:xfrm>
            <a:off x="6400800" y="25146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80"/>
          <p:cNvSpPr/>
          <p:nvPr/>
        </p:nvSpPr>
        <p:spPr>
          <a:xfrm>
            <a:off x="6400800" y="32004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81"/>
          <p:cNvSpPr/>
          <p:nvPr/>
        </p:nvSpPr>
        <p:spPr>
          <a:xfrm>
            <a:off x="6400800" y="38718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2"/>
          <p:cNvSpPr/>
          <p:nvPr/>
        </p:nvSpPr>
        <p:spPr>
          <a:xfrm>
            <a:off x="6400800" y="49086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83"/>
          <p:cNvSpPr/>
          <p:nvPr/>
        </p:nvSpPr>
        <p:spPr>
          <a:xfrm flipV="1">
            <a:off x="6400800" y="5590800"/>
            <a:ext cx="1596960" cy="32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84"/>
          <p:cNvSpPr/>
          <p:nvPr/>
        </p:nvSpPr>
        <p:spPr>
          <a:xfrm>
            <a:off x="6400800" y="1828800"/>
            <a:ext cx="0" cy="37656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85"/>
          <p:cNvSpPr/>
          <p:nvPr/>
        </p:nvSpPr>
        <p:spPr>
          <a:xfrm>
            <a:off x="8001000" y="1828800"/>
            <a:ext cx="0" cy="37656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35"/>
          <p:cNvGrpSpPr/>
          <p:nvPr/>
        </p:nvGrpSpPr>
        <p:grpSpPr>
          <a:xfrm>
            <a:off x="6427800" y="3830760"/>
            <a:ext cx="1562040" cy="1080720"/>
            <a:chOff x="6427800" y="3830760"/>
            <a:chExt cx="1562040" cy="1080720"/>
          </a:xfrm>
        </p:grpSpPr>
        <p:grpSp>
          <p:nvGrpSpPr>
            <p:cNvPr id="111" name="Group 134"/>
            <p:cNvGrpSpPr/>
            <p:nvPr/>
          </p:nvGrpSpPr>
          <p:grpSpPr>
            <a:xfrm>
              <a:off x="6427800" y="3830760"/>
              <a:ext cx="1562040" cy="1080720"/>
              <a:chOff x="6427800" y="3830760"/>
              <a:chExt cx="1562040" cy="1080720"/>
            </a:xfrm>
          </p:grpSpPr>
          <p:grpSp>
            <p:nvGrpSpPr>
              <p:cNvPr id="112" name="Group 133"/>
              <p:cNvGrpSpPr/>
              <p:nvPr/>
            </p:nvGrpSpPr>
            <p:grpSpPr>
              <a:xfrm>
                <a:off x="6427800" y="3830760"/>
                <a:ext cx="1562040" cy="1080720"/>
                <a:chOff x="6427800" y="3830760"/>
                <a:chExt cx="1562040" cy="1080720"/>
              </a:xfrm>
            </p:grpSpPr>
            <p:sp>
              <p:nvSpPr>
                <p:cNvPr id="113" name="Rectangle 94"/>
                <p:cNvSpPr/>
                <p:nvPr/>
              </p:nvSpPr>
              <p:spPr>
                <a:xfrm>
                  <a:off x="6427800" y="3891600"/>
                  <a:ext cx="1562040" cy="1019880"/>
                </a:xfrm>
                <a:prstGeom prst="rect">
                  <a:avLst/>
                </a:prstGeom>
                <a:solidFill>
                  <a:srgbClr val="ff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AutoShape 128"/>
                <p:cNvSpPr/>
                <p:nvPr/>
              </p:nvSpPr>
              <p:spPr>
                <a:xfrm>
                  <a:off x="7022520" y="3830760"/>
                  <a:ext cx="392040" cy="101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Rectangle 131"/>
              <p:cNvSpPr/>
              <p:nvPr/>
            </p:nvSpPr>
            <p:spPr>
              <a:xfrm>
                <a:off x="7115040" y="440856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132"/>
              <p:cNvSpPr/>
              <p:nvPr/>
            </p:nvSpPr>
            <p:spPr>
              <a:xfrm>
                <a:off x="7111800" y="385704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Line 130"/>
            <p:cNvSpPr/>
            <p:nvPr/>
          </p:nvSpPr>
          <p:spPr>
            <a:xfrm>
              <a:off x="7088040" y="4357080"/>
              <a:ext cx="250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380880" y="4572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ORDER OF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380880" y="1295280"/>
            <a:ext cx="8305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When there is more than one symbol of operation in an expression, it is agreed to complete the operations in a certain order.  A mnemonic to help you remember this order is below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1752480" y="4648320"/>
            <a:ext cx="541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99"/>
                </a:solidFill>
                <a:latin typeface="Arial"/>
              </a:rPr>
              <a:t>B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9900cc"/>
                </a:solidFill>
                <a:latin typeface="Arial"/>
              </a:rPr>
              <a:t>I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339933"/>
                </a:solidFill>
                <a:latin typeface="Arial"/>
              </a:rPr>
              <a:t>M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339933"/>
                </a:solidFill>
                <a:latin typeface="Arial"/>
              </a:rPr>
              <a:t>D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ff33cc"/>
                </a:solidFill>
                <a:latin typeface="Arial"/>
              </a:rPr>
              <a:t>A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ff33cc"/>
                </a:solidFill>
                <a:latin typeface="Arial"/>
              </a:rPr>
              <a:t>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 rot="19734600">
            <a:off x="1905480" y="33523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 rot="19734600">
            <a:off x="2591280" y="342864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nd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 rot="19734600">
            <a:off x="3505680" y="33523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Arial"/>
              </a:rPr>
              <a:t>ulti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 rot="19734600">
            <a:off x="4420080" y="342864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Arial"/>
              </a:rPr>
              <a:t>i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1"/>
          <p:cNvSpPr/>
          <p:nvPr/>
        </p:nvSpPr>
        <p:spPr>
          <a:xfrm rot="19734600">
            <a:off x="5181840" y="342864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d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2"/>
          <p:cNvSpPr/>
          <p:nvPr/>
        </p:nvSpPr>
        <p:spPr>
          <a:xfrm rot="19734600">
            <a:off x="6172560" y="350496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ub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1066680" y="2666880"/>
            <a:ext cx="6705720" cy="76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Do any simplifying possible inside of brackets starting with innermost brackets and working 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1143000" y="2514600"/>
            <a:ext cx="6400800" cy="93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cc"/>
                </a:solidFill>
                <a:latin typeface="Arial"/>
              </a:rPr>
              <a:t>Apply Ind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1066680" y="2514600"/>
            <a:ext cx="6705720" cy="93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9933"/>
                </a:solidFill>
                <a:latin typeface="Arial"/>
              </a:rPr>
              <a:t>Complete multiplication and division from left to ri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1066680" y="2590920"/>
            <a:ext cx="6705720" cy="93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cc"/>
                </a:solidFill>
                <a:latin typeface="Arial"/>
              </a:rPr>
              <a:t>Complete addition and subtraction from left to ri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3" name="Object 4"/>
              <p:cNvSpPr txBox="1"/>
              <p:nvPr/>
            </p:nvSpPr>
            <p:spPr>
              <a:xfrm>
                <a:off x="1447920" y="2133720"/>
                <a:ext cx="6186240" cy="12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Text Box 5"/>
          <p:cNvSpPr/>
          <p:nvPr/>
        </p:nvSpPr>
        <p:spPr>
          <a:xfrm>
            <a:off x="3352680" y="57150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IM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3276720" y="5715000"/>
            <a:ext cx="236196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95280" y="304920"/>
            <a:ext cx="6934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brackets – combine these fir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8"/>
          <p:cNvSpPr/>
          <p:nvPr/>
        </p:nvSpPr>
        <p:spPr>
          <a:xfrm>
            <a:off x="2362320" y="762120"/>
            <a:ext cx="609480" cy="1371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9"/>
              <p:cNvSpPr txBox="1"/>
              <p:nvPr/>
            </p:nvSpPr>
            <p:spPr>
              <a:xfrm>
                <a:off x="1523880" y="2286000"/>
                <a:ext cx="6086520" cy="12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Text Box 10"/>
          <p:cNvSpPr/>
          <p:nvPr/>
        </p:nvSpPr>
        <p:spPr>
          <a:xfrm>
            <a:off x="3276720" y="5715000"/>
            <a:ext cx="236196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1219320" y="304920"/>
            <a:ext cx="6933960" cy="1958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ndices – apply the indice n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2"/>
          <p:cNvSpPr/>
          <p:nvPr/>
        </p:nvSpPr>
        <p:spPr>
          <a:xfrm>
            <a:off x="2362320" y="762120"/>
            <a:ext cx="609480" cy="1371600"/>
          </a:xfrm>
          <a:prstGeom prst="line">
            <a:avLst/>
          </a:prstGeom>
          <a:ln w="284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3"/>
          <p:cNvSpPr/>
          <p:nvPr/>
        </p:nvSpPr>
        <p:spPr>
          <a:xfrm>
            <a:off x="3048120" y="838080"/>
            <a:ext cx="609480" cy="1219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14"/>
              <p:cNvSpPr txBox="1"/>
              <p:nvPr/>
            </p:nvSpPr>
            <p:spPr>
              <a:xfrm>
                <a:off x="1219320" y="2438280"/>
                <a:ext cx="6459480" cy="11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Text Box 15"/>
          <p:cNvSpPr/>
          <p:nvPr/>
        </p:nvSpPr>
        <p:spPr>
          <a:xfrm>
            <a:off x="3276720" y="5715000"/>
            <a:ext cx="236196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I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914400" y="304920"/>
            <a:ext cx="6934320" cy="1958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omplete multiplication and division, left to ri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7"/>
          <p:cNvSpPr/>
          <p:nvPr/>
        </p:nvSpPr>
        <p:spPr>
          <a:xfrm flipH="1">
            <a:off x="2819160" y="838080"/>
            <a:ext cx="685800" cy="1219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8"/>
          <p:cNvSpPr/>
          <p:nvPr/>
        </p:nvSpPr>
        <p:spPr>
          <a:xfrm>
            <a:off x="3809880" y="762120"/>
            <a:ext cx="914400" cy="1447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19"/>
              <p:cNvSpPr txBox="1"/>
              <p:nvPr/>
            </p:nvSpPr>
            <p:spPr>
              <a:xfrm>
                <a:off x="1066680" y="2514600"/>
                <a:ext cx="625644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Text Box 20"/>
          <p:cNvSpPr/>
          <p:nvPr/>
        </p:nvSpPr>
        <p:spPr>
          <a:xfrm>
            <a:off x="3352680" y="5715000"/>
            <a:ext cx="236232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IMD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990720" y="228600"/>
            <a:ext cx="6933960" cy="1958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omplete addition and subtraction, left to ri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22"/>
              <p:cNvSpPr txBox="1"/>
              <p:nvPr/>
            </p:nvSpPr>
            <p:spPr>
              <a:xfrm>
                <a:off x="2209680" y="2438280"/>
                <a:ext cx="428472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23"/>
              <p:cNvSpPr txBox="1"/>
              <p:nvPr/>
            </p:nvSpPr>
            <p:spPr>
              <a:xfrm>
                <a:off x="1379520" y="3962520"/>
                <a:ext cx="6188040" cy="12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3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4"/>
          <p:cNvSpPr/>
          <p:nvPr/>
        </p:nvSpPr>
        <p:spPr>
          <a:xfrm>
            <a:off x="838080" y="53352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MMUTATIVE PROP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228600" y="1447920"/>
            <a:ext cx="8458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The operations of both addition and multiplication are commutativ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6"/>
              <p:cNvSpPr txBox="1"/>
              <p:nvPr/>
            </p:nvSpPr>
            <p:spPr>
              <a:xfrm>
                <a:off x="838080" y="2286000"/>
                <a:ext cx="276228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7"/>
              <p:cNvSpPr txBox="1"/>
              <p:nvPr/>
            </p:nvSpPr>
            <p:spPr>
              <a:xfrm>
                <a:off x="5029200" y="2362320"/>
                <a:ext cx="267480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Text Box 8"/>
          <p:cNvSpPr/>
          <p:nvPr/>
        </p:nvSpPr>
        <p:spPr>
          <a:xfrm>
            <a:off x="533520" y="3276720"/>
            <a:ext cx="8229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When adding, you can “commute” or trade the terms pla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9"/>
              <p:cNvSpPr txBox="1"/>
              <p:nvPr/>
            </p:nvSpPr>
            <p:spPr>
              <a:xfrm>
                <a:off x="925560" y="4343400"/>
                <a:ext cx="258768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×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×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10"/>
              <p:cNvSpPr txBox="1"/>
              <p:nvPr/>
            </p:nvSpPr>
            <p:spPr>
              <a:xfrm>
                <a:off x="5040360" y="4343400"/>
                <a:ext cx="249876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" name="Text Box 11"/>
          <p:cNvSpPr/>
          <p:nvPr/>
        </p:nvSpPr>
        <p:spPr>
          <a:xfrm>
            <a:off x="533520" y="5334120"/>
            <a:ext cx="8229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When multiplying, you can “commute” or trade the factors pla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838080" y="53352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SSOCIATIVE PROP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4"/>
              <p:cNvSpPr txBox="1"/>
              <p:nvPr/>
            </p:nvSpPr>
            <p:spPr>
              <a:xfrm>
                <a:off x="380880" y="1905120"/>
                <a:ext cx="486756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5"/>
              <p:cNvSpPr txBox="1"/>
              <p:nvPr/>
            </p:nvSpPr>
            <p:spPr>
              <a:xfrm>
                <a:off x="4267080" y="2590920"/>
                <a:ext cx="464832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6" name="Text Box 6"/>
          <p:cNvSpPr/>
          <p:nvPr/>
        </p:nvSpPr>
        <p:spPr>
          <a:xfrm>
            <a:off x="533520" y="327672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When adding, you can “associate” and add any terms first and then add the other term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7"/>
              <p:cNvSpPr txBox="1"/>
              <p:nvPr/>
            </p:nvSpPr>
            <p:spPr>
              <a:xfrm>
                <a:off x="380880" y="4114800"/>
                <a:ext cx="451656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×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×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×</m:t>
                        </m:r>
                        <m:r>
                          <m:t xml:space="preserve">c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8"/>
              <p:cNvSpPr txBox="1"/>
              <p:nvPr/>
            </p:nvSpPr>
            <p:spPr>
              <a:xfrm>
                <a:off x="4114800" y="4800600"/>
                <a:ext cx="447048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9" name="Text Box 9"/>
          <p:cNvSpPr/>
          <p:nvPr/>
        </p:nvSpPr>
        <p:spPr>
          <a:xfrm>
            <a:off x="533520" y="571500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When multiplying, you can “associate” and multiply any factors first and then multiply the other fact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228600" y="1447920"/>
            <a:ext cx="8458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The operations of both addition and multiplication are associa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3:01:19Z</dcterms:created>
  <dc:creator>haidersh</dc:creator>
  <dc:description/>
  <dc:language>en-US</dc:language>
  <cp:lastModifiedBy>LEGION</cp:lastModifiedBy>
  <dcterms:modified xsi:type="dcterms:W3CDTF">2017-07-06T06:39:13Z</dcterms:modified>
  <cp:revision>68</cp:revision>
  <dc:subject/>
  <dc:title>Slide 1</dc:title>
</cp:coreProperties>
</file>